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8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11.wmf" ContentType="image/x-wmf"/>
  <Override PartName="/ppt/media/image6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3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camera.wav" ContentType="audio/x-wav"/>
  <Override PartName="/ppt/media/image10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s-ES" sz="1200" spc="-1" strike="noStrike">
                <a:solidFill>
                  <a:srgbClr val="000000"/>
                </a:solidFill>
                <a:latin typeface="Arial"/>
                <a:ea typeface="DejaVu Sans Ligh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7440A8C-7207-4937-B927-D158FB839B82}" type="slidenum">
              <a:rPr b="0" lang="es-ES" sz="1200" spc="-1" strike="noStrike">
                <a:solidFill>
                  <a:srgbClr val="000000"/>
                </a:solidFill>
                <a:latin typeface="Arial"/>
                <a:ea typeface="DejaVu Sans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5389A99-42E2-4C76-845A-0DBA85EF2C70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MX" sz="1200" spc="-1" strike="noStrike">
              <a:solidFill>
                <a:srgbClr val="000000"/>
              </a:solidFill>
              <a:latin typeface="Arial"/>
              <a:ea typeface="WenQuanYi Micro He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655E10F-177F-47AD-B259-D1433B79D606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MX" sz="1200" spc="-1" strike="noStrike">
              <a:solidFill>
                <a:srgbClr val="000000"/>
              </a:solidFill>
              <a:latin typeface="Arial"/>
              <a:ea typeface="WenQuanYi Micro He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26356B6-2D5F-4559-A291-8859535C4E2A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MX" sz="1200" spc="-1" strike="noStrike">
              <a:solidFill>
                <a:srgbClr val="000000"/>
              </a:solidFill>
              <a:latin typeface="Arial"/>
              <a:ea typeface="WenQuanYi Micro He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742DF21-4D1A-4834-808E-C1F0004F4DE1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MX" sz="1200" spc="-1" strike="noStrike">
              <a:solidFill>
                <a:srgbClr val="000000"/>
              </a:solidFill>
              <a:latin typeface="Arial"/>
              <a:ea typeface="WenQuanYi Micro He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388299F-BF5B-4C8F-838C-3AEB35DB8321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MX" sz="1200" spc="-1" strike="noStrike">
              <a:solidFill>
                <a:srgbClr val="000000"/>
              </a:solidFill>
              <a:latin typeface="Arial"/>
              <a:ea typeface="WenQuanYi Micro He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AD04B4-C827-434F-8A69-31124620E9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27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618080"/>
            <a:ext cx="8228160" cy="27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41560C-22DF-4B31-B57A-313FF07926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7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7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618080"/>
            <a:ext cx="4015080" cy="27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4618080"/>
            <a:ext cx="4015080" cy="27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A2FEE4-95FC-4F5B-BEB6-9682B4E375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240" cy="27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599840"/>
            <a:ext cx="2649240" cy="27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599840"/>
            <a:ext cx="2649240" cy="27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618080"/>
            <a:ext cx="2649240" cy="27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4618080"/>
            <a:ext cx="2649240" cy="27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4618080"/>
            <a:ext cx="2649240" cy="27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A9391D-EF53-409A-B233-8CD90486115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8160" cy="577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475E08-DD61-4597-908B-DEF152FFED3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57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0E76C3-235A-417C-9B74-7A78EBF32F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57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57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6BDC5F-1719-4EBC-932F-697D154250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F5D6D5-9DC8-4800-87AA-8FFCAADFEB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F56913-CB61-43A3-810D-DADB256726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7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57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618080"/>
            <a:ext cx="4015080" cy="27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703B66-C0A3-43D4-8816-A3F028F748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57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7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4618080"/>
            <a:ext cx="4015080" cy="27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05E775-D50D-44C9-BDD9-86C3E948D8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7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7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618080"/>
            <a:ext cx="8228160" cy="27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CE76EF-71C6-4D20-9FA1-033093C8CE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57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s-ES" sz="1800" spc="-1" strike="noStrike">
                <a:solidFill>
                  <a:srgbClr val="000000"/>
                </a:solidFill>
                <a:latin typeface="Arial"/>
                <a:ea typeface="DejaVu Sans Light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6BC4016-F2F4-47AE-A0DC-83F8DEA507EE}" type="slidenum">
              <a:rPr b="0" lang="es-ES" sz="1800" spc="-1" strike="noStrike">
                <a:solidFill>
                  <a:srgbClr val="000000"/>
                </a:solidFill>
                <a:latin typeface="Arial"/>
                <a:ea typeface="DejaVu Sans Light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976320"/>
            <a:ext cx="77724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MX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3600" spc="-1" strike="noStrike">
                <a:solidFill>
                  <a:srgbClr val="000000"/>
                </a:solidFill>
                <a:latin typeface="Arial"/>
              </a:rPr>
              <a:t>ELEMENTOS DE LA DINÁMICA DE SISTEM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752480" y="3201840"/>
            <a:ext cx="640080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Noción del sistema dinám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Diagramas caus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Diagramas de Forre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457200" y="130320"/>
            <a:ext cx="822960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Veamos los siguientes  ejemplo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8229600" cy="228924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990720" y="4038480"/>
            <a:ext cx="2895480" cy="235764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5943600" y="4035600"/>
            <a:ext cx="2743200" cy="209052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2133720" y="2057400"/>
            <a:ext cx="533160" cy="990720"/>
          </a:xfrm>
          <a:prstGeom prst="upArrow">
            <a:avLst>
              <a:gd name="adj1" fmla="val 50000"/>
              <a:gd name="adj2" fmla="val 46455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848720" y="2133720"/>
            <a:ext cx="533160" cy="914400"/>
          </a:xfrm>
          <a:prstGeom prst="upArrow">
            <a:avLst>
              <a:gd name="adj1" fmla="val 50000"/>
              <a:gd name="adj2" fmla="val 42876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066680" y="2666880"/>
            <a:ext cx="838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MX" sz="48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858000" y="2362320"/>
            <a:ext cx="106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MX" sz="40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39640" y="3284640"/>
            <a:ext cx="41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CONSUMO DE ELEMEN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236000" y="3357720"/>
            <a:ext cx="165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PE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771640" y="2313000"/>
            <a:ext cx="4537080" cy="10447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 fill="hold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udio isNarration="0">
                                <p:cMediaNode showWhenStopped="1">
                                  <p:cTn/>
                                  <p:tgtEl>
                                    <p:sndTgt r:embed="rId4" name="camera.wav"/>
                                  </p:tgtEl>
                                </p:cMediaNode>
                              </p:audio>
                            </p:childTnLst>
                          </p:cTn>
                        </p:par>
                      </p:childTnLst>
                    </p:cTn>
                  </p:par>
                  <p:par>
                    <p:cTn id="8" dur="indefinite" fill="hold">
                      <p:stCondLst>
                        <p:cond delay="indefinite"/>
                      </p:stCondLst>
                      <p:childTnLst>
                        <p:par>
                          <p:cTn id="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udio isNarration="0">
                                <p:cMediaNode showWhenStopped="1">
                                  <p:cTn/>
                                  <p:tgtEl>
                                    <p:sndTgt r:embed="rId5" name="camera.wav"/>
                                  </p:tgtEl>
                                </p:cMediaNode>
                              </p:audio>
                            </p:childTnLst>
                          </p:cTn>
                        </p:par>
                      </p:childTnLst>
                    </p:cTn>
                  </p:par>
                  <p:par>
                    <p:cTn id="13" dur="indefinite" fill="hold">
                      <p:stCondLst>
                        <p:cond delay="indefinite"/>
                      </p:stCondLst>
                      <p:childTnLst>
                        <p:par>
                          <p:cTn id="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" dur="500" fill="hold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udio isNarration="0">
                                <p:cMediaNode showWhenStopped="1">
                                  <p:cTn/>
                                  <p:tgtEl>
                                    <p:sndTgt r:embed="rId6" name="camera.wav"/>
                                  </p:tgtEl>
                                </p:cMediaNode>
                              </p:audio>
                            </p:childTnLst>
                          </p:cTn>
                        </p:par>
                      </p:childTnLst>
                    </p:cTn>
                  </p:par>
                  <p:par>
                    <p:cTn id="18" dur="indefinite" fill="hold">
                      <p:stCondLst>
                        <p:cond delay="indefinite"/>
                      </p:stCondLst>
                      <p:childTnLst>
                        <p:par>
                          <p:cTn id="1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udio isNarration="0">
                                <p:cMediaNode showWhenStopped="1">
                                  <p:cTn/>
                                  <p:tgtEl>
                                    <p:sndTgt r:embed="rId7" name="camera.wav"/>
                                  </p:tgtEl>
                                </p:cMediaNode>
                              </p:audio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Ejemplo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8077320" cy="218916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990720" y="3886200"/>
            <a:ext cx="2361960" cy="22320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6248520" y="3962520"/>
            <a:ext cx="2419200" cy="2128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93" name=""/>
          <p:cNvSpPr/>
          <p:nvPr/>
        </p:nvSpPr>
        <p:spPr>
          <a:xfrm>
            <a:off x="1447920" y="1447920"/>
            <a:ext cx="533160" cy="990360"/>
          </a:xfrm>
          <a:prstGeom prst="upArrow">
            <a:avLst>
              <a:gd name="adj1" fmla="val 50000"/>
              <a:gd name="adj2" fmla="val 46438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990720" y="2133720"/>
            <a:ext cx="838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MX" sz="48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620120" y="1828800"/>
            <a:ext cx="533160" cy="990720"/>
          </a:xfrm>
          <a:prstGeom prst="upArrow">
            <a:avLst>
              <a:gd name="adj1" fmla="val 50000"/>
              <a:gd name="adj2" fmla="val 46455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858000" y="1981080"/>
            <a:ext cx="838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MX" sz="48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258920" y="2997360"/>
            <a:ext cx="165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OFER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20000" y="2997360"/>
            <a:ext cx="165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DEMAN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835280" y="1965240"/>
            <a:ext cx="5041800" cy="9590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dur="indefinite" fill="hold">
                      <p:stCondLst>
                        <p:cond delay="indefinite"/>
                      </p:stCondLst>
                      <p:childTnLst>
                        <p:par>
                          <p:cTn id="2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" dur="500" fill="hold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dur="indefinite" fill="hold">
                      <p:stCondLst>
                        <p:cond delay="indefinite"/>
                      </p:stCondLst>
                      <p:childTnLst>
                        <p:par>
                          <p:cTn id="3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" dur="500" fill="hold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dur="indefinite" fill="hold">
                      <p:stCondLst>
                        <p:cond delay="indefinite"/>
                      </p:stCondLst>
                      <p:childTnLst>
                        <p:par>
                          <p:cTn id="3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udio isNarration="0">
                                <p:cMediaNode showWhenStopped="1">
                                  <p:cTn/>
                                  <p:tgtEl>
                                    <p:sndTgt r:embed="rId4" name="camera.wav"/>
                                  </p:tgtEl>
                                </p:cMediaNode>
                              </p:audio>
                            </p:childTnLst>
                          </p:cTn>
                        </p:par>
                      </p:childTnLst>
                    </p:cTn>
                  </p:par>
                  <p:par>
                    <p:cTn id="40" dur="indefinite" fill="hold">
                      <p:stCondLst>
                        <p:cond delay="indefinite"/>
                      </p:stCondLst>
                      <p:childTnLst>
                        <p:par>
                          <p:cTn id="4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udio isNarration="0">
                                <p:cMediaNode showWhenStopped="1">
                                  <p:cTn/>
                                  <p:tgtEl>
                                    <p:sndTgt r:embed="rId5" name="camera.wav"/>
                                  </p:tgtEl>
                                </p:cMediaNode>
                              </p:audio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Ejemplo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1981080"/>
            <a:ext cx="8610480" cy="22561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914400" y="3886200"/>
            <a:ext cx="3200400" cy="20876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7086600" y="4343400"/>
            <a:ext cx="1496880" cy="168912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2057400" y="1981080"/>
            <a:ext cx="533520" cy="990720"/>
          </a:xfrm>
          <a:prstGeom prst="upArrow">
            <a:avLst>
              <a:gd name="adj1" fmla="val 50000"/>
              <a:gd name="adj2" fmla="val 46424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600200" y="2666880"/>
            <a:ext cx="838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MX" sz="48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543800" y="2057400"/>
            <a:ext cx="533520" cy="990720"/>
          </a:xfrm>
          <a:prstGeom prst="upArrow">
            <a:avLst>
              <a:gd name="adj1" fmla="val 50000"/>
              <a:gd name="adj2" fmla="val 46424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086600" y="2590920"/>
            <a:ext cx="838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MX" sz="48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659640" y="3357720"/>
            <a:ext cx="223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RESULT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11280" y="3357720"/>
            <a:ext cx="518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PREPARARSE PARA EL EXAMEN DE 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627280" y="2349360"/>
            <a:ext cx="4537080" cy="8636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dur="indefinite" fill="hold">
                      <p:stCondLst>
                        <p:cond delay="indefinite"/>
                      </p:stCondLst>
                      <p:childTnLst>
                        <p:par>
                          <p:cTn id="4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" dur="500" fill="hold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dur="indefinite" fill="hold">
                      <p:stCondLst>
                        <p:cond delay="indefinite"/>
                      </p:stCondLst>
                      <p:childTnLst>
                        <p:par>
                          <p:cTn id="5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 fill="hold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dur="indefinite" fill="hold">
                      <p:stCondLst>
                        <p:cond delay="indefinite"/>
                      </p:stCondLst>
                      <p:childTnLst>
                        <p:par>
                          <p:cTn id="5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1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udio isNarration="0">
                                <p:cMediaNode showWhenStopped="1">
                                  <p:cTn/>
                                  <p:tgtEl>
                                    <p:sndTgt r:embed="rId4" name="camera.wav"/>
                                  </p:tgtEl>
                                </p:cMediaNode>
                              </p:audio>
                            </p:childTnLst>
                          </p:cTn>
                        </p:par>
                      </p:childTnLst>
                    </p:cTn>
                  </p:par>
                  <p:par>
                    <p:cTn id="62" dur="indefinite" fill="hold">
                      <p:stCondLst>
                        <p:cond delay="indefinite"/>
                      </p:stCondLst>
                      <p:childTnLst>
                        <p:par>
                          <p:cTn id="6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 fill="hold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udio isNarration="0">
                                <p:cMediaNode showWhenStopped="1">
                                  <p:cTn/>
                                  <p:tgtEl>
                                    <p:sndTgt r:embed="rId5" name="camera.wav"/>
                                  </p:tgtEl>
                                </p:cMediaNode>
                              </p:audio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Ejemplo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143000" y="1828800"/>
            <a:ext cx="7010280" cy="247176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1676520" y="2362320"/>
            <a:ext cx="685800" cy="914400"/>
          </a:xfrm>
          <a:prstGeom prst="downArrow">
            <a:avLst>
              <a:gd name="adj1" fmla="val 50000"/>
              <a:gd name="adj2" fmla="val 33333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086600" y="2286000"/>
            <a:ext cx="685800" cy="1066680"/>
          </a:xfrm>
          <a:prstGeom prst="upArrow">
            <a:avLst>
              <a:gd name="adj1" fmla="val 50000"/>
              <a:gd name="adj2" fmla="val 38885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914400" y="2438280"/>
            <a:ext cx="91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MX" sz="72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248520" y="2514600"/>
            <a:ext cx="76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MX" sz="4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1295280" y="3886200"/>
            <a:ext cx="2638440" cy="26557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5562720" y="4191120"/>
            <a:ext cx="2430360" cy="190476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971640" y="3284640"/>
            <a:ext cx="201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POBLAC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796000" y="3429000"/>
            <a:ext cx="316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RECURSO PERCAPI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700360" y="2479680"/>
            <a:ext cx="3743280" cy="8780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dur="indefinite" fill="hold">
                      <p:stCondLst>
                        <p:cond delay="indefinite"/>
                      </p:stCondLst>
                      <p:childTnLst>
                        <p:par>
                          <p:cTn id="7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3" dur="500" fill="hold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udio isNarration="0">
                                <p:cMediaNode showWhenStopped="1">
                                  <p:cTn/>
                                  <p:tgtEl>
                                    <p:sndTgt r:embed="rId4" name="camera.wav"/>
                                  </p:tgtEl>
                                </p:cMediaNode>
                              </p:audio>
                            </p:childTnLst>
                          </p:cTn>
                        </p:par>
                      </p:childTnLst>
                    </p:cTn>
                  </p:par>
                  <p:par>
                    <p:cTn id="74" dur="indefinite" fill="hold">
                      <p:stCondLst>
                        <p:cond delay="indefinite"/>
                      </p:stCondLst>
                      <p:childTnLst>
                        <p:par>
                          <p:cTn id="7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8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udio isNarration="0">
                                <p:cMediaNode showWhenStopped="1">
                                  <p:cTn/>
                                  <p:tgtEl>
                                    <p:sndTgt r:embed="rId5" name="camera.wav"/>
                                  </p:tgtEl>
                                </p:cMediaNode>
                              </p:audio>
                            </p:childTnLst>
                          </p:cTn>
                        </p:par>
                      </p:childTnLst>
                    </p:cTn>
                  </p:par>
                  <p:par>
                    <p:cTn id="79" dur="indefinite" fill="hold">
                      <p:stCondLst>
                        <p:cond delay="indefinite"/>
                      </p:stCondLst>
                      <p:childTnLst>
                        <p:par>
                          <p:cTn id="8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3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udio isNarration="0">
                                <p:cMediaNode showWhenStopped="1">
                                  <p:cTn/>
                                  <p:tgtEl>
                                    <p:sndTgt r:embed="rId6" name="camera.wav"/>
                                  </p:tgtEl>
                                </p:cMediaNode>
                              </p:audio>
                            </p:childTnLst>
                          </p:cTn>
                        </p:par>
                      </p:childTnLst>
                    </p:cTn>
                  </p:par>
                  <p:par>
                    <p:cTn id="84" dur="indefinite" fill="hold">
                      <p:stCondLst>
                        <p:cond delay="indefinite"/>
                      </p:stCondLst>
                      <p:childTnLst>
                        <p:par>
                          <p:cTn id="8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8" dur="500" fill="hold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udio isNarration="0">
                                <p:cMediaNode showWhenStopped="1">
                                  <p:cTn/>
                                  <p:tgtEl>
                                    <p:sndTgt r:embed="rId7" name="camera.wav"/>
                                  </p:tgtEl>
                                </p:cMediaNode>
                              </p:audio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Ejemplo 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60" y="2514600"/>
            <a:ext cx="19393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2100" spc="-1" strike="noStrike">
                <a:solidFill>
                  <a:srgbClr val="ffffff"/>
                </a:solidFill>
                <a:latin typeface="Times New Roman"/>
              </a:rPr>
              <a:t>NACIMIENTO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733920" y="2514600"/>
            <a:ext cx="16146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2100" spc="-1" strike="noStrike">
                <a:solidFill>
                  <a:srgbClr val="000000"/>
                </a:solidFill>
                <a:latin typeface="Times New Roman"/>
              </a:rPr>
              <a:t>POBLACIO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899480" y="2895480"/>
            <a:ext cx="13190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2100" spc="-1" strike="noStrike">
                <a:solidFill>
                  <a:srgbClr val="ffffff"/>
                </a:solidFill>
                <a:latin typeface="Times New Roman"/>
              </a:rPr>
              <a:t>MUERT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66720" y="1643040"/>
            <a:ext cx="3510000" cy="1674720"/>
          </a:xfrm>
          <a:prstGeom prst="pie">
            <a:avLst/>
          </a:prstGeom>
          <a:noFill/>
          <a:ln w="1303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60800" y="2124000"/>
            <a:ext cx="409680" cy="398520"/>
          </a:xfrm>
          <a:prstGeom prst="pie">
            <a:avLst/>
          </a:prstGeom>
          <a:solidFill>
            <a:srgbClr val="ffffff"/>
          </a:solidFill>
          <a:ln w="223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824040" y="2455920"/>
            <a:ext cx="3738600" cy="1592280"/>
          </a:xfrm>
          <a:prstGeom prst="pie">
            <a:avLst/>
          </a:prstGeom>
          <a:noFill/>
          <a:ln w="1303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8560" y="2936880"/>
            <a:ext cx="324000" cy="398520"/>
          </a:xfrm>
          <a:prstGeom prst="pie">
            <a:avLst/>
          </a:prstGeom>
          <a:solidFill>
            <a:srgbClr val="ffffff"/>
          </a:solidFill>
          <a:ln w="223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782960" y="1609560"/>
            <a:ext cx="3660840" cy="1808280"/>
          </a:xfrm>
          <a:prstGeom prst="pie">
            <a:avLst/>
          </a:prstGeom>
          <a:noFill/>
          <a:ln w="1303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34360" y="2041560"/>
            <a:ext cx="453960" cy="380880"/>
          </a:xfrm>
          <a:prstGeom prst="pie">
            <a:avLst/>
          </a:prstGeom>
          <a:solidFill>
            <a:srgbClr val="ffffff"/>
          </a:solidFill>
          <a:ln w="223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968720" y="2340000"/>
            <a:ext cx="3908520" cy="1692360"/>
          </a:xfrm>
          <a:prstGeom prst="pie">
            <a:avLst/>
          </a:prstGeom>
          <a:noFill/>
          <a:ln w="1303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730760" y="2952720"/>
            <a:ext cx="366840" cy="398520"/>
          </a:xfrm>
          <a:prstGeom prst="pie">
            <a:avLst/>
          </a:prstGeom>
          <a:solidFill>
            <a:srgbClr val="ffffff"/>
          </a:solidFill>
          <a:ln w="223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09480" y="990720"/>
            <a:ext cx="609840" cy="761760"/>
          </a:xfrm>
          <a:prstGeom prst="upArrow">
            <a:avLst>
              <a:gd name="adj1" fmla="val 50000"/>
              <a:gd name="adj2" fmla="val 31228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9480" y="3809880"/>
            <a:ext cx="609840" cy="762120"/>
          </a:xfrm>
          <a:prstGeom prst="upArrow">
            <a:avLst>
              <a:gd name="adj1" fmla="val 50000"/>
              <a:gd name="adj2" fmla="val 31243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343400" y="1371600"/>
            <a:ext cx="609480" cy="762120"/>
          </a:xfrm>
          <a:prstGeom prst="upArrow">
            <a:avLst>
              <a:gd name="adj1" fmla="val 50000"/>
              <a:gd name="adj2" fmla="val 31261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8077320" y="1066680"/>
            <a:ext cx="609480" cy="762120"/>
          </a:xfrm>
          <a:prstGeom prst="upArrow">
            <a:avLst>
              <a:gd name="adj1" fmla="val 50000"/>
              <a:gd name="adj2" fmla="val 31261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648320" y="3809880"/>
            <a:ext cx="533160" cy="762120"/>
          </a:xfrm>
          <a:prstGeom prst="downArrow">
            <a:avLst>
              <a:gd name="adj1" fmla="val 50000"/>
              <a:gd name="adj2" fmla="val 35736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523880" y="990720"/>
            <a:ext cx="838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MX" sz="40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181480" y="1295280"/>
            <a:ext cx="9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MX" sz="40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620120" y="609480"/>
            <a:ext cx="114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MX" sz="40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334120" y="4495680"/>
            <a:ext cx="106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MX" sz="40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219320" y="4724280"/>
            <a:ext cx="761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MX" sz="40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133720" y="2057400"/>
            <a:ext cx="1523880" cy="147168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5580000" y="2276640"/>
            <a:ext cx="1876320" cy="109368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>
            <a:off x="3492360" y="4653000"/>
            <a:ext cx="1793880" cy="158760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-108000" y="2492280"/>
            <a:ext cx="230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NACIMIEN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451640" y="2492280"/>
            <a:ext cx="165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MUER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84360" y="1546200"/>
            <a:ext cx="3743280" cy="8748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55640" y="3068640"/>
            <a:ext cx="3745080" cy="10317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859280" y="1592280"/>
            <a:ext cx="3816360" cy="8287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788000" y="2924280"/>
            <a:ext cx="4105080" cy="11890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dur="indefinite" fill="hold">
                      <p:stCondLst>
                        <p:cond delay="indefinite"/>
                      </p:stCondLst>
                      <p:childTnLst>
                        <p:par>
                          <p:cTn id="9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5" dur="500" fill="hold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udio isNarration="0">
                                <p:cMediaNode showWhenStopped="1">
                                  <p:cTn/>
                                  <p:tgtEl>
                                    <p:sndTgt r:embed="rId4" name="camera.wav"/>
                                  </p:tgtEl>
                                </p:cMediaNode>
                              </p:audio>
                            </p:childTnLst>
                          </p:cTn>
                        </p:par>
                      </p:childTnLst>
                    </p:cTn>
                  </p:par>
                  <p:par>
                    <p:cTn id="96" dur="indefinite" fill="hold">
                      <p:stCondLst>
                        <p:cond delay="indefinite"/>
                      </p:stCondLst>
                      <p:childTnLst>
                        <p:par>
                          <p:cTn id="9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0" dur="500" fill="hold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udio isNarration="0">
                                <p:cMediaNode showWhenStopped="1">
                                  <p:cTn/>
                                  <p:tgtEl>
                                    <p:sndTgt r:embed="rId5" name="camera.wav"/>
                                  </p:tgtEl>
                                </p:cMediaNode>
                              </p:audio>
                            </p:childTnLst>
                          </p:cTn>
                        </p:par>
                      </p:childTnLst>
                    </p:cTn>
                  </p:par>
                  <p:par>
                    <p:cTn id="101" dur="indefinite" fill="hold">
                      <p:stCondLst>
                        <p:cond delay="indefinite"/>
                      </p:stCondLst>
                      <p:childTnLst>
                        <p:par>
                          <p:cTn id="10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5" dur="500" fill="hold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udio isNarration="0">
                                <p:cMediaNode showWhenStopped="1">
                                  <p:cTn/>
                                  <p:tgtEl>
                                    <p:sndTgt r:embed="rId6" name="camera.wav"/>
                                  </p:tgtEl>
                                </p:cMediaNode>
                              </p:audio>
                            </p:childTnLst>
                          </p:cTn>
                        </p:par>
                      </p:childTnLst>
                    </p:cTn>
                  </p:par>
                  <p:par>
                    <p:cTn id="106" dur="indefinite" fill="hold">
                      <p:stCondLst>
                        <p:cond delay="indefinite"/>
                      </p:stCondLst>
                      <p:childTnLst>
                        <p:par>
                          <p:cTn id="10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0" dur="500" fill="hold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udio isNarration="0">
                                <p:cMediaNode showWhenStopped="1">
                                  <p:cTn/>
                                  <p:tgtEl>
                                    <p:sndTgt r:embed="rId7" name="camera.wav"/>
                                  </p:tgtEl>
                                </p:cMediaNode>
                              </p:audio>
                            </p:childTnLst>
                          </p:cTn>
                        </p:par>
                      </p:childTnLst>
                    </p:cTn>
                  </p:par>
                  <p:par>
                    <p:cTn id="111" dur="indefinite" fill="hold">
                      <p:stCondLst>
                        <p:cond delay="indefinite"/>
                      </p:stCondLst>
                      <p:childTnLst>
                        <p:par>
                          <p:cTn id="1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5" dur="500" fill="hold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udio isNarration="0">
                                <p:cMediaNode showWhenStopped="1">
                                  <p:cTn/>
                                  <p:tgtEl>
                                    <p:sndTgt r:embed="rId8" name="camera.wav"/>
                                  </p:tgtEl>
                                </p:cMediaNode>
                              </p:audio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252360"/>
            <a:ext cx="82296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NOCIÓN DE SISTEMA </a:t>
            </a:r>
            <a:br>
              <a:rPr sz="3600"/>
            </a:b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DINÁMIC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a característica fundamental que interesa considerar es la evolución del sistema en el tiempo.</a:t>
            </a:r>
            <a:br>
              <a:rPr sz="3200"/>
            </a:b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Determinar las interacciones que permiten observar su evolu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7543800" y="5715000"/>
            <a:ext cx="857160" cy="8082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648320" y="4343400"/>
            <a:ext cx="2374920" cy="2228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Limites del siste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elección de aquellos componentes que sirvan para generar los modos de comportamien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spacio en donde se llevará a cabo el estudi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No se toman en cuenta aspectos irrelevan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" y="130320"/>
            <a:ext cx="822960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Elementos y relaciones en los modelo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Un sistema esta formado por un conjunto de elementos en interac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Del mismo modelo se pueden generar distintos model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724280" y="3389400"/>
            <a:ext cx="3984840" cy="3468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457200" y="190440"/>
            <a:ext cx="82296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empus Sans ITC"/>
              </a:rPr>
              <a:t>Diagramas Causales:</a:t>
            </a:r>
            <a:br>
              <a:rPr sz="4000"/>
            </a:br>
            <a:r>
              <a:rPr b="1" lang="es-ES" sz="4000" spc="-1" strike="noStrike">
                <a:solidFill>
                  <a:srgbClr val="000000"/>
                </a:solidFill>
                <a:latin typeface="Tempus Sans ITC"/>
              </a:rPr>
              <a:t> Tipo de Variab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Tempus Sans ITC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Tempus Sans ITC"/>
              </a:rPr>
              <a:t>Variables exógenas</a:t>
            </a:r>
            <a:r>
              <a:rPr b="0" lang="es-ES" sz="4400" spc="-1" strike="noStrike">
                <a:solidFill>
                  <a:srgbClr val="000000"/>
                </a:solidFill>
                <a:latin typeface="Tempus Sans ITC"/>
              </a:rPr>
              <a:t>: Afectan al sistema sin que este las provoqu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Tempus Sans ITC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Tempus Sans ITC"/>
              </a:rPr>
              <a:t>Variables endógenas</a:t>
            </a:r>
            <a:r>
              <a:rPr b="0" lang="es-ES" sz="4400" spc="-1" strike="noStrike">
                <a:solidFill>
                  <a:srgbClr val="000000"/>
                </a:solidFill>
                <a:latin typeface="Tempus Sans ITC"/>
              </a:rPr>
              <a:t>: Afectan al sistema pero este sí las provoca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Diagramas Caus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85800" y="1676520"/>
            <a:ext cx="77724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Muestran el comportamiento del sistem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ermite conocer la estructura de un sistema dinámico, dada por la especificación de las variables y la relación de cada par de 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7315200" y="304920"/>
            <a:ext cx="1571760" cy="13716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600200" y="3657600"/>
            <a:ext cx="15238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00400" y="335268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B   “A tiene influencia en B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523880" y="4191120"/>
            <a:ext cx="152424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24080" y="3886200"/>
            <a:ext cx="5029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s-E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 “a un aumento de A corresponde un aumento de B” (relación positiv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523880" y="5334120"/>
            <a:ext cx="152424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24080" y="5029200"/>
            <a:ext cx="5029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s-ES" sz="24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 “a un aumento de A corresponde una disminución de B” (relación negativ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Diagramas Causales</a:t>
            </a: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Tipos de relaciones que ligan dos elementos entres si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09480" y="1905120"/>
            <a:ext cx="7772400" cy="516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mpus Sans ITC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empus Sans ITC"/>
              </a:rPr>
              <a:t>RELACIÓN CAUSAL</a:t>
            </a:r>
            <a:r>
              <a:rPr b="0" lang="es-ES" sz="3200" spc="-1" strike="noStrike">
                <a:solidFill>
                  <a:srgbClr val="000000"/>
                </a:solidFill>
                <a:latin typeface="Tempus Sans ITC"/>
              </a:rPr>
              <a:t>: Aquella en la que un elemento A determina a otro B, con relación de Causa a Efec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mpus Sans ITC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empus Sans ITC"/>
              </a:rPr>
              <a:t>RELACIÓN CORRELATIVA</a:t>
            </a:r>
            <a:r>
              <a:rPr b="0" lang="es-ES" sz="3200" spc="-1" strike="noStrike">
                <a:solidFill>
                  <a:srgbClr val="000000"/>
                </a:solidFill>
                <a:latin typeface="Tempus Sans ITC"/>
              </a:rPr>
              <a:t>: Existencia de una correlación entre dos elementos del sistema, sin existir entre ellos una relación Causa-Efec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7572240" y="0"/>
            <a:ext cx="1571760" cy="137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457200" y="252360"/>
            <a:ext cx="82296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s-MX" sz="3600" spc="-1" strike="noStrike">
                <a:solidFill>
                  <a:srgbClr val="000000"/>
                </a:solidFill>
                <a:latin typeface="Arial"/>
              </a:rPr>
              <a:t>Cómo se debe de desarrollar un diagrama Caus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empus Sans ITC"/>
              </a:rPr>
              <a:t>Listar todas las variables posibles, pueden ser cuantitativas y cualitativ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lnSpc>
                <a:spcPct val="80000"/>
              </a:lnSpc>
              <a:spcBef>
                <a:spcPts val="1749"/>
              </a:spcBef>
              <a:buClr>
                <a:srgbClr val="66ff33"/>
              </a:buClr>
              <a:buFont typeface="Zapf Dingbats" charset="2"/>
              <a:buChar char="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mpus Sans ITC"/>
                <a:ea typeface="WenQuanYi Micro He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empus Sans ITC"/>
                <a:ea typeface="WenQuanYi Micro Hei"/>
              </a:rPr>
              <a:t>Vent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lnSpc>
                <a:spcPct val="80000"/>
              </a:lnSpc>
              <a:spcBef>
                <a:spcPts val="1749"/>
              </a:spcBef>
              <a:buClr>
                <a:srgbClr val="66ff33"/>
              </a:buClr>
              <a:buFont typeface="Zapf Dingbats" charset="2"/>
              <a:buChar char="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mpus Sans ITC"/>
                <a:ea typeface="WenQuanYi Micro He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empus Sans ITC"/>
                <a:ea typeface="WenQuanYi Micro Hei"/>
              </a:rPr>
              <a:t>Estr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mpus Sans ITC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empus Sans ITC"/>
              </a:rPr>
              <a:t>Revisar la lista para refinarl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1749"/>
              </a:spcBef>
              <a:buClr>
                <a:srgbClr val="66ff33"/>
              </a:buClr>
              <a:buFont typeface="Zapf Dingbats" charset="2"/>
              <a:buChar char="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mpus Sans ITC"/>
                <a:ea typeface="WenQuanYi Micro Hei"/>
              </a:rPr>
              <a:t>Revisar si alguna variable ya está incluida en otra o significan lo mism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1749"/>
              </a:spcBef>
              <a:buClr>
                <a:srgbClr val="66ff33"/>
              </a:buClr>
              <a:buFont typeface="Zapf Dingbats" charset="2"/>
              <a:buChar char="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mpus Sans ITC"/>
                <a:ea typeface="WenQuanYi Micro Hei"/>
              </a:rPr>
              <a:t>Si es realmente crítica o n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457200" y="252360"/>
            <a:ext cx="82296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s-MX" sz="3600" spc="-1" strike="noStrike">
                <a:solidFill>
                  <a:srgbClr val="000000"/>
                </a:solidFill>
                <a:latin typeface="Arial"/>
              </a:rPr>
              <a:t>Cómo se debe de desarrollar un diagrama Caus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900000" y="1413000"/>
            <a:ext cx="7772400" cy="47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80000"/>
              </a:lnSpc>
              <a:spcBef>
                <a:spcPts val="1500"/>
              </a:spcBef>
              <a:buClr>
                <a:srgbClr val="ff3300"/>
              </a:buClr>
              <a:buFont typeface="Zapf Dingbats" charset="2"/>
              <a:buChar char="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empus Sans ITC"/>
              </a:rPr>
              <a:t>Poner un nombre adecuado a la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1250"/>
              </a:spcBef>
              <a:buClr>
                <a:srgbClr val="009999"/>
              </a:buClr>
              <a:buFont typeface="Zapf Dingbats" charset="2"/>
              <a:buChar char="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empus Sans ITC"/>
                <a:ea typeface="WenQuanYi Micro Hei"/>
              </a:rPr>
              <a:t>Usar sustantivos, no verb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Zapf Dingbats" charset="2"/>
              <a:buChar char="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empus Sans ITC"/>
                <a:ea typeface="WenQuanYi Micro Hei"/>
              </a:rPr>
              <a:t>SI: Nuevos produc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Zapf Dingbats" charset="2"/>
              <a:buChar char="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empus Sans ITC"/>
                <a:ea typeface="WenQuanYi Micro Hei"/>
              </a:rPr>
              <a:t>NO: Desarrollar nuevos produc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Zapf Dingbats" charset="2"/>
              <a:buChar char="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empus Sans ITC"/>
                <a:ea typeface="WenQuanYi Micro Hei"/>
              </a:rPr>
              <a:t>SI: Gananc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Zapf Dingbats" charset="2"/>
              <a:buChar char="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empus Sans ITC"/>
                <a:ea typeface="WenQuanYi Micro Hei"/>
              </a:rPr>
              <a:t>NO: Ser ren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1250"/>
              </a:spcBef>
              <a:buClr>
                <a:srgbClr val="66ff33"/>
              </a:buClr>
              <a:buFont typeface="Zapf Dingbats" charset="2"/>
              <a:buChar char="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empus Sans ITC"/>
                <a:ea typeface="WenQuanYi Micro Hei"/>
              </a:rPr>
              <a:t>Usar nombres más neutrales o positiv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Zapf Dingbats" charset="2"/>
              <a:buChar char="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empus Sans ITC"/>
                <a:ea typeface="WenQuanYi Micro Hei"/>
              </a:rPr>
              <a:t>SI: Satisfacción en el trabaj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Zapf Dingbats" charset="2"/>
              <a:buChar char="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empus Sans ITC"/>
                <a:ea typeface="WenQuanYi Micro Hei"/>
              </a:rPr>
              <a:t>NO: Inconformidad con el trabaj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Zapf Dingbats" charset="2"/>
              <a:buChar char="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empus Sans ITC"/>
                <a:ea typeface="WenQuanYi Micro Hei"/>
              </a:rPr>
              <a:t>SI: Moral en el Recurso Huma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Zapf Dingbats" charset="2"/>
              <a:buChar char="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empus Sans ITC"/>
                <a:ea typeface="WenQuanYi Micro Hei"/>
              </a:rPr>
              <a:t>NO: Mala vi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2T13:40:52Z</dcterms:created>
  <dc:creator>Oscar Ascón Valdivia</dc:creator>
  <dc:description/>
  <dc:language>en-US</dc:language>
  <cp:lastModifiedBy>PC</cp:lastModifiedBy>
  <dcterms:modified xsi:type="dcterms:W3CDTF">2008-04-21T13:25:50Z</dcterms:modified>
  <cp:revision>4</cp:revision>
  <dc:subject/>
  <dc:title>III. ELEMENTOS DE LA DINÁMICA DE SISTEMAS</dc:title>
</cp:coreProperties>
</file>